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FE35F-2FE0-40FD-83BA-5F551F25C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2211D-1D1F-45D8-9D44-B54907020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87491-3341-4913-90C2-FCF59940C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CC777-C125-46DB-B187-B3A35170E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518F8-DCEA-4C87-82F8-56EC2296F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464DC-BC8E-4ADB-BF90-0DB54FB64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F5F1B-4DE6-43F6-8DC6-B1D912694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BFBF2-0BA5-4B68-8DCA-E2B57CC98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B176F-4E12-40B1-90F3-4543F84E1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B60CC-EF71-4B06-BE0E-786ADCFD4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71DB1-6C42-4E86-8DB1-633CF1F60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39D68-0F7B-437E-80DB-18DC97924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21D04-9ADE-4823-BBE1-BE3173CE8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3FC26-AD5B-4527-AC35-99CB0C53F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C4763-42D0-48D0-AA93-F220808D0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C8C3D-6D2E-4BDE-B49E-0490FE651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FFDD2-B13B-4198-BC1E-F02A15CEB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9B3F1-FD24-425A-A33B-EDD3557FE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B3388-29D2-4228-AB9A-78F906C97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BED6F-AD01-46AD-AF89-5FC7D796B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7CD76-BA15-4935-9918-AABD17CF9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3E62C-ED36-4ED6-B058-7E6FE5A5D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E7B14-ADEF-4C91-9A52-679E10AE2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C3000-E510-44CA-82BF-FFF592F4B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05280" y="4680"/>
            <a:ext cx="17538120" cy="27381240"/>
            <a:chOff x="-8405280" y="4680"/>
            <a:chExt cx="17538120" cy="273812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05280" y="4680"/>
              <a:ext cx="773094112920" cy="2738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0"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14B5F-B9BB-4A2F-90BA-EBC2F8936F62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BCC50-E11B-47D6-9FF0-648F04A8B3E9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93752280" y="1463760"/>
            <a:ext cx="171988200" cy="21589560"/>
            <a:chOff x="-93752280" y="1463760"/>
            <a:chExt cx="171988200" cy="2158956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93752280" y="1463760"/>
              <a:ext cx="171988200" cy="2158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"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D2680-A5BA-487D-A622-B150ACAE6BC6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129528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2E23F-4C76-4A87-8752-0B973C88A449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492360" y="1125360"/>
            <a:ext cx="4824720" cy="410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Внешнеторговая политика</a:t>
            </a:r>
            <a:br>
              <a:rPr sz="4000"/>
            </a:b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Валютный рынок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38080" y="6316560"/>
            <a:ext cx="7086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838080" y="5866920"/>
            <a:ext cx="7632720" cy="115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авка Н.В., учитель истории и обществознания МОУ «Февральская СОШ №1»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2009г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3230640" cy="32400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 txBox="1"/>
          <p:nvPr/>
        </p:nvSpPr>
        <p:spPr>
          <a:xfrm>
            <a:off x="3995640" y="260280"/>
            <a:ext cx="2162160" cy="69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Экономика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DC7A6-1342-4C13-B9B8-CF2DF4F6D6CF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3B2D26F9-F7DF-4B74-B42E-A0877960FA7F}" type="datetime1">
              <a:rPr lang="en-US"/>
              <a:t>07/29/26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684360" y="476280"/>
            <a:ext cx="813564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25"/>
              </a:spcBef>
              <a:buClr>
                <a:srgbClr val="ffffff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а валютный курс влияет эластичность спроса по цене на импортные товары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buClr>
                <a:srgbClr val="ffffff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Различия в процентных ставках по вкладу в банках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buClr>
                <a:srgbClr val="ffffff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Ожидания владельцев денег относительно динамики курса в будущем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2195640" y="2133720"/>
            <a:ext cx="42195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Валютная политика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84360" y="2852640"/>
            <a:ext cx="7920000" cy="1728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ccff"/>
              </a:gs>
              <a:gs pos="50000">
                <a:srgbClr val="004558"/>
              </a:gs>
              <a:gs pos="100000">
                <a:srgbClr val="00cc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Это совокупность экономических, правовых и организационных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мер в области регулирования валютных отношений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принимаемых государственными органами, центральными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банковскими учреждениями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международными финансовыми организациями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39640" y="4859280"/>
            <a:ext cx="8280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Юридически валютная политика оформляется законами (в России Закон РФ «О валютном регулировании и валютном контроле»). Регулирование валютного курса называется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девизной политикой.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0643D-84DF-4854-A1F7-162161E7D9A8}" type="slidenum">
              <a:t>10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6ECCB3-7246-4781-9DD1-74C92EEEE8B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4360" y="549360"/>
            <a:ext cx="8064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оддержка фиксированных курсов обеспечивается валютными интервенциями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539640" y="1341360"/>
            <a:ext cx="2781360" cy="10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алютные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интервенции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924360" y="1268280"/>
            <a:ext cx="4895640" cy="1297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99"/>
              </a:gs>
              <a:gs pos="100000">
                <a:srgbClr val="33996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Это деятельность Центрального банка по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купке-продаже иностранной валюты для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оддержания курса национальной валюты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84360" y="2708280"/>
            <a:ext cx="82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и сокращении валютных резервов или инфляции требуется девальвация или ревальвация валюты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684360" y="3429000"/>
            <a:ext cx="28000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latin typeface="Impact"/>
              </a:rPr>
              <a:t>ДЕВАЛЬВАЦИЯ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99ff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latin typeface="Impact"/>
              </a:rPr>
              <a:t>ВАЛЮТЫ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99ff"/>
              </a:solidFill>
              <a:latin typeface="Impact"/>
              <a:ea typeface="Impact"/>
            </a:endParaRPr>
          </a:p>
        </p:txBody>
      </p:sp>
      <p:sp>
        <p:nvSpPr>
          <p:cNvPr id="135" name=""/>
          <p:cNvSpPr/>
          <p:nvPr/>
        </p:nvSpPr>
        <p:spPr>
          <a:xfrm>
            <a:off x="3635280" y="3429000"/>
            <a:ext cx="4896000" cy="129708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Это официальное снижение курса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ациональной валюты по отношению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к иностранным валютам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4360" y="5013360"/>
            <a:ext cx="28000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Impact"/>
              </a:rPr>
              <a:t>РЕВАЛЬВАЦИЯ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Impact"/>
              </a:rPr>
              <a:t>ВАЛЮТЫ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Impact"/>
              <a:ea typeface="Impact"/>
            </a:endParaRPr>
          </a:p>
        </p:txBody>
      </p:sp>
      <p:sp>
        <p:nvSpPr>
          <p:cNvPr id="137" name=""/>
          <p:cNvSpPr/>
          <p:nvPr/>
        </p:nvSpPr>
        <p:spPr>
          <a:xfrm>
            <a:off x="3708360" y="5084640"/>
            <a:ext cx="4896000" cy="129708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Это официальное повышение  курса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ациональной валюты по отношению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к иностранным валютам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4E262-3B0D-402B-A83B-7FC5C7CDFD21}" type="slidenum">
              <a:t>11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1F2A76-3C7B-4CCB-BB8C-A96621AA662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900000" y="620640"/>
            <a:ext cx="7704360" cy="58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Инструментом валютной политики являются валютные ограничения – меры, регламентирующие операции с национальной и иностранной валютой, для поддержания валютного курса и других целей (Федеральный закон РФ «О валютном регулировании и валютном контроле» 2004г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 результате соглашений между государствами возникает мировая валютная система. </a:t>
            </a:r>
            <a:r>
              <a:rPr b="1" lang="ru-RU" sz="1800" spc="-1" strike="noStrike">
                <a:solidFill>
                  <a:srgbClr val="ffff00"/>
                </a:solidFill>
                <a:latin typeface="Times New Roman"/>
              </a:rPr>
              <a:t>В 1867г. принята Парижская валютная система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(золотомонетный стандарт): параллельное обращение золотых монет и банкнот, конвертируемость банкнот в золото, свободный ввоз и вывоз золот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imes New Roman"/>
              </a:rPr>
              <a:t>В 1944г. принята Бреттон-Вудская валютная система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: в качестве международных денег были приняты золото и резервные валюты (доллар и фунт стерлингов). Доллар США приравнивался к золоту как эталон ценности валют и мог обмениваться на золото по официальной цене 35 долл. За 1 тройскую унцию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imes New Roman"/>
              </a:rPr>
              <a:t>В 1976г. принята Ямайская валютная система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: отменены официальные цены золота и золотые паритеты валют, т.е. золото демонетизировалось; отменены фиксированные курсы валют; модифицированы функции МВФ как института валютного регулирования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DF070-618B-4E69-86B8-3888C8D0E784}" type="slidenum">
              <a:t>1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7574F9-5BBC-4D5E-BFA8-42D04EB2958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4360" y="404640"/>
            <a:ext cx="777528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Россия вошла в МВФ в 1992г. И стала полноправным участником современной международной валютной системы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Российский рубль является частично конвертируемой валютой с управляемо плавающим курсом. Либерализованы операции с капиталом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348000" y="1844640"/>
            <a:ext cx="1914480" cy="69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РЕЗЮМЕ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55640" y="2924280"/>
            <a:ext cx="8137440" cy="32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Мировое хозяйство представляет собой совокупность экономик отдельных стран, связанных системой международных экономических отношений. Оно основывается на международном разделении труда. Оно включает более 200 стран и территорий, который могут быть классифицированы по различным критериям с учетом многих экономических показателей. Три основные группы: индустриальные страны, развивающиеся страны и страны с переходной экономикой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ажнейший элемент системы м-н отношений – международная торговля. Международные расчеты осуществляются при посредстве валютного рынка, который представлен многообразными операциями. В результате межгосударственных соглашений возникает мировая валютная систем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611AE-CC3C-4B2B-BFF9-0D5888A8D898}" type="slidenum">
              <a:t>1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62B445-9DDB-487B-9BB7-5A5E573254E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611280" y="549360"/>
            <a:ext cx="36478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фритредерство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572000" y="333360"/>
            <a:ext cx="4103640" cy="1150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ecff"/>
              </a:gs>
              <a:gs pos="50000">
                <a:srgbClr val="5f5f5f"/>
              </a:gs>
              <a:gs pos="100000">
                <a:srgbClr val="ccec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Внешнеторговая политика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ориентированная на свободное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развитие торговл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11280" y="1484280"/>
            <a:ext cx="8066160" cy="1334160"/>
          </a:xfrm>
          <a:prstGeom prst="rect">
            <a:avLst/>
          </a:prstGeom>
          <a:noFill/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 1947г. заключено Генеральное соглашение по тарифам и торговле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се страны используют комплекс мер для стимулирования и защиты рынка от внешней конкуренции. </a:t>
            </a:r>
            <a:r>
              <a:rPr b="0" lang="ru-RU" sz="1800" spc="-1" strike="noStrike" u="sng">
                <a:solidFill>
                  <a:srgbClr val="ffffff"/>
                </a:solidFill>
                <a:uFillTx/>
                <a:latin typeface="Times New Roman"/>
              </a:rPr>
              <a:t>Классический инструмент протекционизма – таможенные пошлины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8360" y="3068640"/>
            <a:ext cx="276228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Таможенны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пошлины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419640" y="3068640"/>
            <a:ext cx="5545080" cy="1512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f5f5f"/>
              </a:gs>
              <a:gs pos="50000">
                <a:srgbClr val="0000ff"/>
              </a:gs>
              <a:gs pos="100000">
                <a:srgbClr val="5f5f5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Это государственные денежные сборы, взимаемые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 провозимых  через границу товаров в соответствии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 таможенными тарифами и в зависимости от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тепени обработки товара, страны его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оисхождения и других обстоятельств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84360" y="5013360"/>
            <a:ext cx="1439640" cy="865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ccff"/>
              </a:gs>
              <a:gs pos="50000">
                <a:srgbClr val="005e75"/>
              </a:gs>
              <a:gs pos="100000">
                <a:srgbClr val="00cc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Цен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экспортного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товар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484360" y="5013360"/>
            <a:ext cx="1440000" cy="865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ccff"/>
              </a:gs>
              <a:gs pos="50000">
                <a:srgbClr val="005e75"/>
              </a:gs>
              <a:gs pos="100000">
                <a:srgbClr val="00cc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Таможенна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ошлин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284720" y="4941720"/>
            <a:ext cx="2232000" cy="1008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ccff"/>
              </a:gs>
              <a:gs pos="50000">
                <a:srgbClr val="005e75"/>
              </a:gs>
              <a:gs pos="100000">
                <a:srgbClr val="00cc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овышенна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нутрення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цен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195640" y="5445000"/>
            <a:ext cx="215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306520" y="5300640"/>
            <a:ext cx="0" cy="289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924360" y="5373720"/>
            <a:ext cx="360360" cy="71280"/>
          </a:xfrm>
          <a:prstGeom prst="rightArrow">
            <a:avLst>
              <a:gd name="adj1" fmla="val 50000"/>
              <a:gd name="adj2" fmla="val 126389"/>
            </a:avLst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516720" y="5445000"/>
            <a:ext cx="504720" cy="73080"/>
          </a:xfrm>
          <a:prstGeom prst="rightArrow">
            <a:avLst>
              <a:gd name="adj1" fmla="val 50000"/>
              <a:gd name="adj2" fmla="val 172660"/>
            </a:avLst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020000" y="5013360"/>
            <a:ext cx="1873080" cy="1008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ccff"/>
              </a:gs>
              <a:gs pos="50000">
                <a:srgbClr val="005e75"/>
              </a:gs>
              <a:gs pos="100000">
                <a:srgbClr val="00cc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Уменьшени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проса на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экспортный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товар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35F45-DF64-466E-809A-84F33AB3B893}" type="slidenum">
              <a:t>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E42568-60A0-4D3D-89F5-281A7FE4A8E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539640" y="538200"/>
            <a:ext cx="8353440" cy="36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С одной стороны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, защита от внешней конкуренции способствует консервации технологической отсталости местных предприятий, которые не имеют стимулов для снижения издержек производства. Сохранение пошлин препятствует развитию международной торговли. По оценкам ВТО, снижение пошлин приведет к росту мировой торговли на 12%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С другой стороны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, пошлины способствуют развитию молодых отраслей национальной экономики, созданию новых рабочих мест. Государство получает стабильные доходы от таможенного обложения, что дает возможность выполнять социальные программы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Импортные пошлины в России выше среднеевропейских, так как при снижении пошлин значительная часть отечественных предприятий обанкротится. Для снижения пошлин необходим подъем экономики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395280" y="4221000"/>
            <a:ext cx="5245200" cy="24400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6372360" y="4292640"/>
            <a:ext cx="1655640" cy="2071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E6765-32B2-4459-9388-2DE2D807D6E1}" type="slidenum">
              <a:t>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03BD4B-E53B-4563-89A1-BAE7E9BEBEF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468360" y="549360"/>
            <a:ext cx="820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Разновидностью импортных пошлин являются антидемпинговые пошлины. Они устанавливаются для борьбы с демпингом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611280" y="1484280"/>
            <a:ext cx="2305080" cy="10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Демпинг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203640" y="1413000"/>
            <a:ext cx="5689440" cy="115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99ff"/>
              </a:gs>
              <a:gs pos="50000">
                <a:srgbClr val="5f5f5f"/>
              </a:gs>
              <a:gs pos="100000">
                <a:srgbClr val="9999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Установление искусственно заниженных цен на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экспортируемые товары для достижения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конкурентноспособности на внешних рынках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1280" y="3068640"/>
            <a:ext cx="8353440" cy="29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Используются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етарифные инструменты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– меры, не связанные с установлением пошлин: установление импортных квот, т.е. количественных ограничений на ввоз определенных товаров, установление жестких стандартов и технических условий для импортных товаров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Для стимулирования экспорта применяются государственные субсидии, льготные кредиты экспортерам и иностранным покупателям, страхование коммерческих рисков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 результате могут возникнуть и возникают «стальные», «автомобильные», «куриные» и др. торговые войны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E82D4-73A7-4A78-8848-EA9DE934C2D8}" type="slidenum">
              <a:t>4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9150D2-927D-460E-AA64-92362C67074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Международное регулирование торговли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26920" y="1989000"/>
            <a:ext cx="7993080" cy="419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существляется Всемирной торговой организацией (ВТО)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– преемницей Генерального соглашения по тарифам и торговле с 1995г. Членами ВТО являются 140 государств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ecff"/>
                </a:solidFill>
                <a:latin typeface="Times New Roman"/>
              </a:rPr>
              <a:t>Основные принципы ВТО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Либерализация торговли путем постоянного снижения ставок таможенных пошлин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Отказ от нетарифных ограничений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едискриминационный характер торговли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облюдение правил торговли услугами и объектами интеллектуальной собственности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Россия ведет переговоры о вступлении в ВТО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A4F59-A6AE-4E80-B013-02F6A26FFAB6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B6B36D-CEA3-4CF6-B619-6DF9E0B5846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Валютный рынок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95280" y="1628640"/>
            <a:ext cx="8353440" cy="20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Осуществление международных расчетов предполагает использование валют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од </a:t>
            </a:r>
            <a:r>
              <a:rPr b="1" lang="ru-RU" sz="2000" spc="-1" strike="noStrike">
                <a:solidFill>
                  <a:srgbClr val="ffff66"/>
                </a:solidFill>
                <a:latin typeface="Times New Roman"/>
              </a:rPr>
              <a:t>валютой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понимается любая национальная денежная единица. Термин «валюта» применяется для обозначения денежных знаков иностранных государств и платежных средств, выраженных в тех или иных национальных денежных единицах и используемых в международных расчетах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4360" y="3860640"/>
            <a:ext cx="2228760" cy="10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Валютный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рынок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059280" y="3645000"/>
            <a:ext cx="5689440" cy="1439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66ff"/>
              </a:gs>
              <a:gs pos="100000">
                <a:srgbClr val="9999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Система устойчивых экономических и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организационных отношений, возникающих в связи с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куплей-продажей иностранных валю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84360" y="5362560"/>
            <a:ext cx="82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алютный рынок существует, так нет единых денег, обязательных для приема во всех государствах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1D2F6-0211-4F2B-AB8E-DD686A9E706D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C087FA-2ACD-40A8-A107-5EA95D15FC7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468360" y="692280"/>
            <a:ext cx="8280360" cy="409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Мировые валютные рынки расположены более чем в 25 международных финансовых центрах, среди которых выделяются Лондон, Нью-Йорк, Токио, Париж, Цюрих, Франкфурт-на-Майне, Гонконг, Сингапур, Бахрейн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imes New Roman"/>
              </a:rPr>
              <a:t>Важнейшие операторы на международном валютном рынке – банки, особенно транснациональные. Покупают и продают валюту предприятия, участвующие во внешнеэкономической деятельности, валютные органы государства, частные лица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Масштабы: более 1 трлн долл. В день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imes New Roman"/>
              </a:rPr>
              <a:t>На национальном валютном рынке операции производятся в границах территории страны в соответствии с законами данного государства. Центральный банк устанавливает курс национальной валюты в отношении валют зарубежных стран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68360" y="5157720"/>
            <a:ext cx="32576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Валютный курс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995640" y="4797360"/>
            <a:ext cx="4969080" cy="158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66"/>
              </a:gs>
              <a:gs pos="50000">
                <a:srgbClr val="cc6600"/>
              </a:gs>
              <a:gs pos="100000">
                <a:srgbClr val="ffcc6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Цена денежной единицы одной страны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выраженная в иностранных денежных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единицах или международных расчетных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единицах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0A03E-D158-4500-B47A-BBE60E4ED0A2}" type="slidenum">
              <a:t>7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86807A-DBF5-4397-9ECA-CA970DAD030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755640" y="549360"/>
            <a:ext cx="7704000" cy="39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Так спрос и предложение валют непрерывно меняется, валютный курс нестабилен. Его фиксация на определенную дату банками или валютной биржей называется котировкой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66"/>
                </a:solidFill>
                <a:latin typeface="Times New Roman"/>
              </a:rPr>
              <a:t>Прямая котировка</a:t>
            </a:r>
            <a:r>
              <a:rPr b="0" lang="ru-RU" sz="2400" spc="-1" strike="noStrike">
                <a:solidFill>
                  <a:srgbClr val="ffcc66"/>
                </a:solidFill>
                <a:latin typeface="Times New Roman"/>
              </a:rPr>
              <a:t> – к единице иностранной валюты приравнивается то или иное количество национальных денежных единиц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Косвенная котировка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 – единица национальной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 валюты приравнивается к определенному количеству иностранной валюты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BA972-6CF1-411A-A9B9-5DC666304A3E}" type="slidenum">
              <a:t>8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BA519D-1C3A-4779-9C13-344AFF516A9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8080560" cy="80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Почему меняются курсы валют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39640" y="1052640"/>
            <a:ext cx="8280360" cy="51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25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Динамика курса определяется сдвигами в соотношениях цен одинаковых «корзин» товаров на внутренних рынках. Например: предположим, что 1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$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= 0,75 €, цена компьютера, который заменяет в данном случае корзину товаров, в США составляет 1000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$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в Германии – 750 €. Если в Германии компьютеры подорожают до 800€, то будет выгоден их экспорт из США, так как при курсе 0,75€ за 1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$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можно будет продать его в Германии за 800 € и поменять их на 1066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$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Прибыль составит 66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$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не принимая в расчет  транспортировку и другие расходы. Это приведет к росту спроса на доллары для закупок компьютеров в США, и курс доллара вырастет, допустим, до 0,85 €. В таком случае станет выгоден их экспорт из Германии, выгода на одной сделке составит 50 €. Это приведет к росту спроса на евро. Равновесие установится при курсе 0,80 евро за один доллар. Этот курс будет отражать новое соотношение цен компьютеров в США и Германии. Таким образом, курс валюты зависит от темпов инфляции в стране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инамика курса определяется изменениями в динамике экспорта и импорта страны. Например, чем больше экспорт, тем больше спрос за границей на валюту этой страны, тем выше ее курс. Рост импорта вызывает рост спроса на иностранную валюту и ослабление национальной валюты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D210C-157B-4B98-9AD1-E0A0DC46CD55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5CF377-7229-44B4-A449-F3C294B5CD5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1T11:16:07Z</dcterms:created>
  <dc:creator>Надежда</dc:creator>
  <dc:description/>
  <dc:language>en-US</dc:language>
  <cp:lastModifiedBy>Надежда</cp:lastModifiedBy>
  <dcterms:modified xsi:type="dcterms:W3CDTF">2009-05-26T08:09:07Z</dcterms:modified>
  <cp:revision>4</cp:revision>
  <dc:subject/>
  <dc:title>Внешнеторговая политик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49</vt:r8>
  </property>
  <property fmtid="{D5CDD505-2E9C-101B-9397-08002B2CF9AE}" pid="3" name="Version">
    <vt:r8>3</vt:r8>
  </property>
</Properties>
</file>